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6C8-AAE0-4560-9638-254B1409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D4D-F620-4133-9343-5B49245E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7A2-F270-4157-ACE9-892815E6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8F8-7B25-4379-A261-7192DA55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276-D8EA-4AAE-9952-1E5003C6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390-0F40-4025-B54A-53D537AF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3CE-E775-43DE-9714-E8139E2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7E1-B230-404E-8CC6-EB970F96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C07-2650-4798-8146-C5E0854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E9F-03A4-4518-8E66-FED2934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E60-8381-4826-9870-A7A2475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0AE-D780-41BC-A8E7-10BBAE7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B9D-1F24-4D28-BFA0-BD568A5D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-sane.net/tutorials/focal_point/index.ph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Principles of Desig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ierarchic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648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ierarchical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24160" y="1981080"/>
            <a:ext cx="26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Garamond"/>
                <a:hlinkClick r:id="rId1"/>
              </a:rPr>
              <a:t>Focal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85680" y="2585880"/>
            <a:ext cx="321012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00640" y="2438280"/>
            <a:ext cx="2505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Art I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rida Kahlo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The Two Frida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39, Surreali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51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icasso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Girl Before a Mirro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32, Cubist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392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otatsu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The Zen Priest Choka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late 16th – early 17th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825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77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Critical Thinking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 vs.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524400" cy="2721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243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46400"/>
            <a:ext cx="38098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Unity &amp; Var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11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8256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10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mphasis &amp; Sub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743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8840" y="2506680"/>
            <a:ext cx="68245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7590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71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202896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681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86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Visual W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892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0516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6134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5:40:42Z</dcterms:created>
  <dc:creator>Sheila Levi</dc:creator>
  <dc:description/>
  <dc:language>en-US</dc:language>
  <cp:lastModifiedBy>Sheila</cp:lastModifiedBy>
  <dcterms:modified xsi:type="dcterms:W3CDTF">2005-05-16T20:36:18Z</dcterms:modified>
  <cp:revision>20</cp:revision>
  <dc:subject/>
  <dc:title>Principles of Design</dc:title>
</cp:coreProperties>
</file>